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F9B-9315-4218-A635-16457E9E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15C-D6C8-4E82-A7DB-1982CEE8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B1F95-2193-4D27-84EC-58894E53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308FB-A499-4B99-BAA0-2C71575D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76B8E-AB30-4EBF-AE8F-B4864C32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8B5F7-B1AD-4F87-909C-A15ED6E8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9DF35-152F-4FD7-87B8-EDF0F3E4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0E2C0-89E9-4CD5-9C1A-6407B266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B3093-B79B-42FC-B07D-7F5BF4DD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B6C35-B598-42C8-8BC2-231B9265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F6C2A-562B-401D-8487-755A61CA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8FF9C-F296-484F-8F1C-DBECF612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43C-7C70-49D8-B486-3E6CCEEE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02037-8499-4230-BA57-134B8082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4708C-757F-41FC-9018-CCCB7948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9F573-976B-4ECA-856A-96CF8092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EF16F-2C30-4B3E-B7D5-4A29FC3D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4367E-9D9B-4D8A-B91B-19642BE3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CB33A-796F-42E7-8131-5F0AA0E8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108E0-CBF8-4A88-91A3-26B88F9D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C4D38-F1A0-409F-A797-16884613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0BC5E-5F28-4A7E-A287-435977D2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5A39C-A4C8-4A53-953B-9173782D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BB7-80C5-4D5C-AB4C-7A267390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89D27-1DB7-4BAD-ACE8-077B3075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EB138-EDF1-4A93-9617-CB38BDE0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6C768-6260-4434-9EB7-FF2AC082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27449-EC32-4950-B095-0EF8D64E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07435-C249-445B-AC95-5951D3AD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6C6A5-4269-4537-B8B3-F975E454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F0F6C-1EA2-471A-917D-FDF5F655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9170A-4B29-45FC-BDDC-1A2019F0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F2CB9-A040-403A-9599-D1FEBD3D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EF586-87A5-4BBB-BF2B-A9551FAB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8777-11FA-4132-BD98-6866F34A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8EFA6-C7F1-4862-BF39-46E2F73E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62D61-0260-4094-B84E-9C000BEC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14A98-3001-4801-9FA2-3DDBBD31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86FE1-29E6-4C26-B99E-C6D8AAEA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87107-EBC4-4CDA-A7B3-A8B49A62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8C882-2C49-403F-8359-78DA72AC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F5585-117F-4DBC-9BD2-1F900FE3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CB1DB-375E-4C64-9FD0-9F5EB57C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E5E41-AC5B-4F87-BF67-29EABFEB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EAAF5-841E-42A3-8704-57353A23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9BCD-CAA8-4F8D-BBC6-296C9A72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0E54E-CA4F-4011-B782-DD2ADF78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D05E0-EEDE-47C2-B8C0-A2FDCCF7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E045A-867D-4F02-88E9-26346952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22C6C-345D-4020-96D2-6B493872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04432-CBAE-47DA-84DD-6B122008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4AD84-DEF0-401E-81B9-2F95F4C5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B5D36-CF8D-426D-8EAC-FD82799F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957E5-860D-4A52-A181-D091B86C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AED5B-BAE4-47DB-9527-62D07B8E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0F645-EE1F-4E79-858D-F440A4EB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C52C-02A7-4AB4-ADF4-C73213D4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2C1FF-59C9-4C35-976C-D8DBA611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1BEAA-6FF6-49C0-8B23-CFC36A3F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A7AE6-3F20-4FC7-B850-B35BB6C2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C257A-A458-4FB1-A2B1-B5620D98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A3680-01B6-4A9C-B418-84400D2B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B4022-0FBF-4C46-B0AA-AC49B3E0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CBD9B-BB1A-4BF7-A481-1CB04B29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A9E6B-205F-4979-878A-F2EA1C3D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AA889-D5D5-4D0C-A730-A754756E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98389-97F5-4B66-B102-9C9B370B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68ED-4CC7-4514-8425-1557ED93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A5050-EC1B-4E80-BB46-A1DB639E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175F4-6AC8-4234-9AF2-AB6EE2F3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B8AD9-96DC-4483-8CBA-552E4ED1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139A54-4BF2-40CE-AB16-729746A0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E6356-7A4A-43A9-B4E0-A59EC4C2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06048-85C6-499D-9D94-3FD82B1C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DBDA9-DE3E-487B-BF35-768B7C29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6BBA6-D097-4980-B262-10FA6883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8BCEE-5405-4041-BF12-746F3474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1039F-E641-4B3A-A4E4-EA1281F5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F3A9-E73B-4937-AB67-BF9C16BE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5C38CA-42AD-4007-889B-23DF52ED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CAC98E-7D33-4E49-BE4C-60DCD257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1990B6-6153-4100-BCED-C84B40D6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F841DF-FF24-4023-A197-7F6C5881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02613-C2C1-4661-89F2-4D35504D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B7AA5D-4330-4D7B-9BA7-57662506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6CB154-92A3-42C8-921C-BA67D25D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08939-1884-43F5-8486-4271905B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84721-B3A6-4F44-A07A-8B46B4AF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470803-7BFD-4D1C-B196-A975D062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DB27-45E2-4353-859D-C1873620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E510AA-A6AF-45D1-AE93-FBBE9867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C58010-EA02-4DE7-9E44-1BF29488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BD2AB5-B632-472E-ABFB-EDE74188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B0EF74-1373-4633-B7BB-565FC50D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941448-18C7-422A-8C88-0A18528E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61A2A-3AE8-44E5-A6E0-4267C859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7A746F-2D91-496A-9AD0-B7225B78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332A5D-A118-4214-80C5-971F16A6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591D6E-F76C-4C97-9FD6-D02203FC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DA3D95-93C3-46CE-B542-5AD8FAD2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7371-83B1-4C16-A076-8B934B7C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B3C7D0-A462-4DE3-9F95-9CED9F73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E78D00-B157-42D3-A141-68AD61E8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F5818-9D75-4E93-A11E-CD23251E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F4BFD-5CB5-4889-BD33-85AC2B2A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6A08D-C93C-4161-BE52-AEA5A415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E7B831-3757-4485-85C7-092B834B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EFA5B0-1BC4-4301-8DEA-411EF008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BCC488-6688-4D7D-8CA3-DCF69DDE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40C06-29D1-48A1-8CFB-4C56C4FB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D59CE-6725-414F-B1AF-5E947FFD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2E2-3A87-4636-8190-C855EB5E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BDFF-6A4A-4795-8463-4401C39D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4B56D3-5938-4F7F-8CCC-D14E8437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D431D6-D0CB-468E-ABAE-CB531169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9D051-AD34-4BCD-B36B-E2FCF809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09DFA7-C9CC-42B2-A1F1-3BBA07B1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FDC20B-A400-47B3-A1B5-FF0294EC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EF5B77-4BC2-4C84-BA86-36D5B2B5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2671AC-EBBA-41CD-BAD2-8C494EE3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2230A0-3B89-4111-999F-7502B687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B67424-1544-4850-82E2-A9BDB777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844849-F745-4C8A-91D0-AAADA28A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25FC-2C5B-4FC8-BEBF-091C6B2F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312D7-27CA-4574-B1BA-2DDE8242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8BCF5D-BDA9-413B-90B6-12A25FAA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8A331E-73FF-4A71-B026-B58152D5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1D0F5C-F833-4FD7-92DD-6F9CA8B9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09D9AD-760A-4FB2-98BA-706462EE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B3016A-9E5E-4773-A2CC-DD59F8C7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EA3152-A4B7-4B38-80B3-B97C9121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A2969B-CD5C-4290-B0E4-80AD5E8D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879C31-2C0B-45AD-A8D8-C2F9597F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28E486-4CC2-4C5B-B623-9A3A705D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76D5-391A-4C4B-AC7C-A2764EB4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9B5EBD-5E37-42E0-85F1-78CF4F70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37161-A1FC-469D-9401-59BC0E36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940180-D297-4671-B5B5-CDFA73C6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1314CA-61AA-4A39-BD95-8652B221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93DE7B-4D53-4FCD-9FBB-CC8E97E8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868D82-180F-4DB2-BC3A-48B43FFC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1BEB8C-C740-416B-B442-16BF37DA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35F41C-064C-498A-AAF0-CBF79AAA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C05D5B-CA42-4848-ACF4-5EBC71A3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673BE6-6ED6-4BC7-A25B-3BF07B0A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758C-1B8C-4A06-9960-1C17A019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FEB15D-610B-479B-9047-7298A1BF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467E1E-D078-48FF-A362-CAA55FC0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10B699-F59D-462F-9F54-6149F577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5C18AC-93E9-498B-8169-2678DE47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12999D-7B61-4F3B-8852-C848228A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1AE053-58D9-404F-A4AA-9E30E11B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41DFF2-4DBA-48F0-921E-84F644F5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D91195-8105-4851-AC40-51DB3DC1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0AD35F-CC39-4B2C-B9F7-5B3D2323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42292B-4AE8-4162-ADC3-42272EF6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A47A-EB30-4272-A88F-AC9DEB48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72B379-DEE4-40A8-956C-E3565DE3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FC6438-CDD9-443A-938D-351F9EF4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F65312-D2CE-4EE0-96A5-3B09E505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3473E0-CFD0-49C3-BF76-E1CE1140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D3780B-7D00-4EB8-A8B7-6D7DD215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59F894-3077-4F7C-8FA1-244E52E4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FEDCF0-5CF4-4FB7-ACF4-22B3A423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8A9A8-A692-4495-8D5F-AC4D63DC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B04903-35C4-4534-AEA1-E876F015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DB9ED8-2434-4E0A-87D8-F725E402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01FB8-4B59-4567-9AD8-4482590D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BD432E-D6CB-4EA2-8677-BFC92A8C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B2E7B1-C56F-4B0B-A774-22E74E24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E83D5-D57A-4C82-BAAF-EECF00FF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E3215E-FD19-4A11-98EE-79B6791F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14B778-910F-4203-8789-F1B0DB6D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B9E28D-F884-4192-91C9-AE1E125C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C777B5-4257-4A07-BE9F-43D68670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C64B95-EA9A-4A5B-BD69-3C09CF2E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567359-D3A3-4322-9314-EEF13AF1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D2DD5A-8A20-4EB8-8E7D-189A4998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4E588-99F1-4FF6-A66B-E880588A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607EA6-26F2-4CE9-AC3C-1A52CF3E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DE227B-C927-41F0-90A8-A322BA4E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349A7A-F851-48A9-B658-BCCBF5DB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7A8756-5C5F-45AD-8A0D-5409D0D7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AAFC68-9688-486F-8C71-03A8F29F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7A26A7-BA50-4F77-AA06-5DFB78BB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1B4476-6664-42FF-A7C1-C1C03A74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20C13B-D7B6-4F2D-81AC-3B4CB025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E35BF7-D0A2-4050-AD92-9C0F6B6F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BC81B4-B2BF-4E7B-A7AC-D383C9E0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B4DCC-34BC-448B-95B9-F7F3F9D9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0FA491-BC23-453C-BF1C-4B827DD3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B7FD09-6B95-4A58-B8D4-17A20023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03098F-D6EE-449B-8BF5-40888681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E63F26-C41E-4816-80E8-2B338156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F5F257-76C4-4469-B4DF-531D7AFC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0282E7-4B7E-4818-BD03-8F0E0781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72E8C7-F18B-4ECC-84A3-3D6A903A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CF4966-BB6F-4613-A14D-DC673A10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FFA373-094F-49FA-BFDE-378E3D0C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A859DD-384F-4FF1-8680-0A29FEDE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9C9FA-57E6-4C79-B77B-E2BF5DE0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18BF81-D32B-460A-8A37-F0A71BF9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3F01CD-610A-4F37-BBCB-EE636976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BD4BB3-138A-4813-BDBE-F9CD63C7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363493-5558-4AA4-98E9-BB71F8FC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7889C1-9018-45FC-9AB8-5873CDEE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A3CAD8-62FC-4FFB-9F73-B1A04C39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298130-7ED7-4998-9985-112F295D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D3A7C5-5070-40EF-8211-1D0A8077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BBAD2A-915E-4710-9F3A-639272E0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D53096-C15F-4329-8724-C61DC9AC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BB117-FD4F-4F0D-8B5E-ADB6FA2E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56FA70-10E5-476D-9BA5-D12FB160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AB16E0-CC6F-489E-8D12-FBC37E0F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71B9BA-4BA3-4338-8EAA-543471E6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3C4A59-FC5C-4FF7-8721-2B9714FA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324271-CE80-4FB9-9A43-19C11F36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368658-0F21-4E8A-9671-2A249431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78E0FB-BB55-4FEB-8B66-54D3BDEA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5F6D4C-D1FA-46DA-B08F-98B26AAF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A9ACAE-DA9D-4594-BBD6-A3F60BFA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58544C-B807-4CF7-85DA-AFFE7C3E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925-BD08-4BA1-A04D-BB9CC2D7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1DA2-EDCE-4A84-85AB-9D852ED2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861D85-F258-4701-95EF-1D4A55BD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F16602-14F2-44E4-A61B-69A555B8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EADCE1-BF98-46CB-A41D-6B6DBEB6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6BD276-A2C6-4790-AFB8-A3DD14F6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889AE4-F0F3-475E-8B96-9BAE0C7E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3B314F-5076-42F0-B700-1A9E0F92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6B0F77-FB4F-4CA5-800D-3A20802B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A0F25D-C3E1-4930-BFF4-BFE3DB4A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3C0CB9-0EB9-45CD-BA42-9E326EC3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3404C5-77BD-4083-945F-7C32E665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B17EA-4E40-48A0-A0C9-25732792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EDDA59-B7DF-4ACB-8FE4-E0BDCDC9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6EC223-4AB9-40D2-B07D-97839F6F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E49DD8-05E6-4BD4-AE2C-90C21556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0FF257-BCFC-46C4-A6AD-03442FBD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5F495A-8282-4AAB-B2BC-C11E063E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704CB3-4E3B-4A14-81B6-BD33CAF5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DDAF4F-2C7C-4ECF-B616-433EA413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6C9586-08A3-4A2F-B905-8A95501E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BFFA3B-B431-4931-BE63-DA85E13F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DD11D4-CB11-48BA-9662-2C926F2B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DD0EA-04CE-40F1-8700-918ABAC3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7A5F03-C959-4B25-AC9F-9B36DBCE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58BC8B-6477-423B-A6B2-B0A398E9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0F2BF2-924E-480F-83A0-D4DE7030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EC30E1-9409-44AE-988A-168780FF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782BBE-0E1C-4F5D-8729-E8AE7416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29052C-367B-4E4A-A5E2-5545CFCC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0D6E0F-CD2C-40E3-BC39-6C0EDC7F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20F8F4-0EC2-4E18-BA5B-280E556A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556666-E58E-4491-8260-120DE577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6A9AA1-642F-400B-A7FA-1A895023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A8C55-397A-4489-B507-A6272828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34F323-6F45-43C5-B924-E706F9BC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7F55EE-91DB-43FD-82EB-573D9A74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2CE607-EF0D-44DD-B67C-EB2C8EC5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063008-3B17-4FFA-9A2C-CFB7C047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6F4A3E-3284-42A3-9C17-CD5BA37E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5B8D40-5F62-4152-A353-4C7084D0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076E6A-624B-4A32-872A-B5141722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A53D47-0784-40DD-8125-47DBF1A5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CDFEF9-0B86-4483-92EC-BBF3B24A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101B6E-DAC0-47C2-B5CC-577CA214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6A976-E051-4391-B9E5-596F1D79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DE2E6E-945B-4DEE-BEF6-A8EBDC45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980123-7E07-46E2-A24D-D8D47582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147B9A-8421-4924-A32F-D0532C68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B28DC6-1A87-4962-BA96-98F961DE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5059A8-3662-4F3B-9B81-C8F42B6D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D33A77-32AE-4938-8E40-9EC3C090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A88213-DB88-440E-9B3F-36738715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6BAD4C-C245-4F1D-BA85-1B4912C7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5EF930-9A86-43A7-B5D9-A282E5B5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BF8E20-A48B-442F-91CC-82620293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58679-E8CC-49B6-BD69-A3068CC1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FDB5FB-AEAC-4078-B6D7-46B8F5D1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7F54AA-7CDA-4794-8C44-7FE4AD1D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50914F-84B0-49F7-9380-A297F4CD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7B71E3-A9DA-47B5-8D2F-EAB21B1A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0B4CB9-D336-49DD-9F6B-B614A109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0C407B-E8B3-404D-8C86-6B61F675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998472-F4FA-42BC-9570-06661BF1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E89CD3-79B6-422F-80E5-21174E9A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C6469B-C2F1-48CF-8131-62429F65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9D8735-7847-4D90-9E52-49FC4E40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A7D5A-BA05-4F9D-B579-652B9B64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2268F1-A365-4929-B4F2-CECEE308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56A39E-9444-4813-AF37-3322A24B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BF9B84-3E30-4E6C-BF48-264BF857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1ABE57-DFC9-46E8-9CCF-AA7F1867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8B1779-C8B0-464B-AF04-D5B5B302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DEBF45-B86A-4B0E-8826-5897A866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A9A02F-576E-4AE5-8C16-41746354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341465-DB2D-4CB3-9753-CEEBE809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BE92F3-77C6-4E9D-988B-1C6D7D3E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3E8DF4-44C4-47CB-929A-2FCD3AEF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40F6E-CB96-445A-9BD7-8E7EB17B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7BFB80-2866-42BC-917D-15C68E25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11DE49-0CCC-4E55-AB0C-38600238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2C27D8-CECC-4FB5-B3F3-60CFC217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422C7-FEC5-4AC8-B623-5CF48525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B0BD8-C5E9-446D-A61D-19C1B49C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BA0-5D4E-4062-B755-BF6C2893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F0810-81A3-4AEF-9237-679F6D7D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216AC-7591-47E9-A0B1-51CF4231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935C7-AFD3-493F-A672-6385F5B5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90B56-A91E-4627-9E79-D46B797C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C6F0B-E911-418F-9703-8D5EE6BA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2E63F-979B-494D-9937-F7C7542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5211A-4AC6-46FC-83E0-6BA3966F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0E9FD-4B66-4FB0-BAC1-FD87E7A9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CC46F-DA26-4823-8387-BE542D59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2F5F6-A77E-45FB-855E-515A3579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BB1-C310-4D0D-A341-D812CCA7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27A89-840B-4BD7-A5F0-A6EB11AF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C7354-3CE7-4CDD-A768-F352D07F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41F26-BF34-457A-A2D9-8B24DEA7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622D1-5438-41A4-96C6-B827AE6A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67909-3CC9-4452-96F4-7D2BD69B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EF1F9-3179-44F6-83A7-B9334B40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E225A-B77C-48BC-9DBB-1F10F339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C246D-30AC-4900-BAEC-D7BD4866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9368A-6C3D-4813-A229-E2EE2E46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38267-1C3F-4E07-AB55-70473CE7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882-8637-4AAD-BAD4-F0163210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A0261-EF4F-4F79-9D2C-A7463239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40702-CF5F-4B60-B2E0-B2DA37C8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4641B-E140-4EAD-A619-59A2ECD4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36AF0-7BDD-4C37-806B-08D6F4E4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7EE00-0291-4932-93BC-DDEA4FAC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B7415-D9CA-41E3-A339-56E76CC8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A15F5-53AF-4C10-ABFB-E2C0895A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61158-D708-405B-B006-5766AD86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63E95-D1D2-4C66-93E9-738D322A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7EA86-3735-40B0-B990-A5DEAE3A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13E-8FF2-4A75-B16E-6D6F2374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0587C-C7EE-4770-8E3E-BC3EA2C0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652F9-DE42-4D02-9B01-E2227F2A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943E7-5E44-4384-A4D4-3AEA5146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45F62-0FAA-4A37-8F10-5F0E707C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C64E8-5F3D-4F99-A6E8-8122A141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60F45-857B-47B9-9418-6DA284CE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B9588-DA12-481C-9D71-B2C45CDA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2E04B-650F-47EE-B763-08B7B455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77278-569D-4724-A9A5-7F3F8B5A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2D4DB-6573-4EF2-A441-DF94276C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53B-74EF-443F-920D-16A424B6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B83BC-DD1D-4BAE-9300-E5D48B0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25943-6F5E-4C07-BE21-B9D023E5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A6472-2398-4D5F-BF46-DBEFC285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47101-08F7-4189-8FDD-61F8229F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B63A6-C990-4ED3-8715-16C4DD6F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DB4CD-1A0D-49C3-9428-5CD89F8E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3914C-FE31-48BB-84E5-E174F7E5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1403C-319C-47C3-A3BD-A8BF1971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3E054-36B7-498D-ABF2-3A7DB107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36CD8-D048-4239-AA69-A69D5137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F6C-6785-4D98-9D64-863EBCF2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7910B-AB5D-4DE7-94DF-F757D65E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05B77-3203-4446-9374-3B960295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9CB54-831A-4171-8E37-E753B865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026C0-A288-4E91-A9F4-6355390B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EA4F4-B369-4655-BF55-70A2C5EC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A3B13-1ED3-4452-B647-87CCD5CE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6086C-BAFF-4726-A0D0-9BCC35FF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93659-0870-4F74-B785-01604D29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6F68C-D7F5-4EFD-9B87-D2486954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2EDB6-7E1A-4D4C-82A9-FDD30D0A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3F7E-D099-429F-8878-6DBB55976C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4E9E-B046-4E83-AADC-86AA2B5D32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87AE-7A09-4184-9DBE-5137597541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7638-C2C6-4549-B759-4E72368B12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45C6-7BFF-4085-8229-1B3F89585B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B1E8-DDF2-4F38-8210-AE99A089B3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52F7-FF1C-4526-80FD-3F2AA7D1B4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8D68-CD4F-494F-A372-4986E63EC9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967E-5C43-4054-A592-B13F3DB293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7FD5-4FCB-4BBD-A8A8-7070A44D82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69DC-577D-4F5D-9361-FBADD307AA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49EA-6B21-447A-9AFD-C7B136FEBE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DD80-D855-4DC9-9BBE-D73B20C820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C824-F34F-440C-A698-B58CF6C010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2145-42A6-4AD8-8998-4B249065F2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3201-66CC-437F-B798-E565A52399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870A-EB96-4D1F-9181-843B45637C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B28E-8E34-41B7-85E4-07CC4984E7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4D1F-1943-4697-9233-59D9211F16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BEEA-1BBC-42E5-98B0-14A14FF26D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D1C2-F104-4279-B035-1DAFA3F584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2454-0F66-45D4-85AB-1D20A0C219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7B69-AEE9-49A8-9939-ECD1D47419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3DC0-CED8-4150-B251-B2B5268D4A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ECBA-9B13-46DB-8B1C-EDFE9019BA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0E1E-31B0-49D2-902E-FA1B8B87C9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B0DC-DE51-4460-848E-8B76891809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1BC3-06A8-4445-877B-B169F78645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C1AA-2F60-47F4-8BA7-2C092640C7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8C39-255A-4433-B020-9D6EDA7086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9CEA-42C8-48EF-96F3-51889E1B4E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0FA2-1E9E-4584-8C78-5AD9E077A2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D758-D68A-4FCC-B62A-4C5A638E43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169C-8A09-4224-BB5F-6E6EF125F4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8445-2858-41CD-9779-80F6BBD6C9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3444-0AD7-4BF1-9A74-046D46EF3C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7F34-74F2-4B7C-85CA-71B0E2431F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2618-7CAC-4FD8-876F-38E886648A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23FA-C83C-445E-B70C-A57B2A94C9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C30B-E572-4C9F-BDEF-682FE1355A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6A40-4713-48CB-B5DF-639DF2C93E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A0F0-148F-4A22-B2D0-C179E760F5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FB85-3519-4A55-959A-6465E03B0E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B507-D718-4C72-97AA-3EF4380F51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D2D7-AD39-40CE-9474-84B902664C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16AB-2417-4106-ACC7-5F49141C66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86DC-D16C-4914-A247-0AC74EE76E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1B8D-E622-4412-9445-4B00F3B707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D36A-D507-46AF-BAEB-F3E2891BDF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6CF6-4E5F-419B-9393-7D66564ABD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2066760" cy="76212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1504800" y="3005280"/>
            <a:ext cx="61344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16737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58040" cy="5114880"/>
          </a:xfrm>
          <a:prstGeom prst="rect">
            <a:avLst/>
          </a:prstGeom>
          <a:ln w="0">
            <a:noFill/>
          </a:ln>
        </p:spPr>
      </p:pic>
      <p:sp>
        <p:nvSpPr>
          <p:cNvPr id="1481" name="矩形 116738"/>
          <p:cNvSpPr/>
          <p:nvPr/>
        </p:nvSpPr>
        <p:spPr>
          <a:xfrm>
            <a:off x="7740720" y="1268280"/>
            <a:ext cx="503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15713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67760" cy="4305240"/>
          </a:xfrm>
          <a:prstGeom prst="rect">
            <a:avLst/>
          </a:prstGeom>
          <a:ln w="0">
            <a:noFill/>
          </a:ln>
        </p:spPr>
      </p:pic>
      <p:pic>
        <p:nvPicPr>
          <p:cNvPr id="1483" name="图片 115714" descr=""/>
          <p:cNvPicPr/>
          <p:nvPr/>
        </p:nvPicPr>
        <p:blipFill>
          <a:blip r:embed="rId2"/>
          <a:stretch/>
        </p:blipFill>
        <p:spPr>
          <a:xfrm>
            <a:off x="900000" y="5373720"/>
            <a:ext cx="6591240" cy="581040"/>
          </a:xfrm>
          <a:prstGeom prst="rect">
            <a:avLst/>
          </a:prstGeom>
          <a:ln w="0">
            <a:noFill/>
          </a:ln>
        </p:spPr>
      </p:pic>
      <p:sp>
        <p:nvSpPr>
          <p:cNvPr id="1484" name="矩形 115715"/>
          <p:cNvSpPr/>
          <p:nvPr/>
        </p:nvSpPr>
        <p:spPr>
          <a:xfrm>
            <a:off x="7799400" y="1617840"/>
            <a:ext cx="5032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14689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48680" cy="4991400"/>
          </a:xfrm>
          <a:prstGeom prst="rect">
            <a:avLst/>
          </a:prstGeom>
          <a:ln w="0">
            <a:noFill/>
          </a:ln>
        </p:spPr>
      </p:pic>
      <p:sp>
        <p:nvSpPr>
          <p:cNvPr id="1486" name="矩形 114691"/>
          <p:cNvSpPr/>
          <p:nvPr/>
        </p:nvSpPr>
        <p:spPr>
          <a:xfrm>
            <a:off x="1766880" y="179532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4692"/>
          <p:cNvSpPr/>
          <p:nvPr/>
        </p:nvSpPr>
        <p:spPr>
          <a:xfrm>
            <a:off x="4129200" y="180828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4693"/>
          <p:cNvSpPr/>
          <p:nvPr/>
        </p:nvSpPr>
        <p:spPr>
          <a:xfrm>
            <a:off x="6453360" y="180828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4694"/>
          <p:cNvSpPr/>
          <p:nvPr/>
        </p:nvSpPr>
        <p:spPr>
          <a:xfrm>
            <a:off x="2135160" y="253224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4695"/>
          <p:cNvSpPr/>
          <p:nvPr/>
        </p:nvSpPr>
        <p:spPr>
          <a:xfrm>
            <a:off x="1754280" y="331956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4696"/>
          <p:cNvSpPr/>
          <p:nvPr/>
        </p:nvSpPr>
        <p:spPr>
          <a:xfrm>
            <a:off x="3544920" y="331956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4697"/>
          <p:cNvSpPr/>
          <p:nvPr/>
        </p:nvSpPr>
        <p:spPr>
          <a:xfrm>
            <a:off x="5246640" y="335772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4698"/>
          <p:cNvSpPr/>
          <p:nvPr/>
        </p:nvSpPr>
        <p:spPr>
          <a:xfrm>
            <a:off x="6504120" y="334476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4699"/>
          <p:cNvSpPr/>
          <p:nvPr/>
        </p:nvSpPr>
        <p:spPr>
          <a:xfrm>
            <a:off x="1766880" y="414504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4700"/>
          <p:cNvSpPr/>
          <p:nvPr/>
        </p:nvSpPr>
        <p:spPr>
          <a:xfrm>
            <a:off x="3976560" y="4132440"/>
            <a:ext cx="3812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4701"/>
          <p:cNvSpPr/>
          <p:nvPr/>
        </p:nvSpPr>
        <p:spPr>
          <a:xfrm>
            <a:off x="5640480" y="414504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4702"/>
          <p:cNvSpPr/>
          <p:nvPr/>
        </p:nvSpPr>
        <p:spPr>
          <a:xfrm>
            <a:off x="7101000" y="414504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4703"/>
          <p:cNvSpPr/>
          <p:nvPr/>
        </p:nvSpPr>
        <p:spPr>
          <a:xfrm>
            <a:off x="1830240" y="4932360"/>
            <a:ext cx="3812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4704"/>
          <p:cNvSpPr/>
          <p:nvPr/>
        </p:nvSpPr>
        <p:spPr>
          <a:xfrm>
            <a:off x="3506760" y="494496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14705"/>
          <p:cNvSpPr/>
          <p:nvPr/>
        </p:nvSpPr>
        <p:spPr>
          <a:xfrm>
            <a:off x="5551560" y="491976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14706"/>
          <p:cNvSpPr/>
          <p:nvPr/>
        </p:nvSpPr>
        <p:spPr>
          <a:xfrm>
            <a:off x="6948360" y="4919760"/>
            <a:ext cx="3812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14707"/>
          <p:cNvSpPr/>
          <p:nvPr/>
        </p:nvSpPr>
        <p:spPr>
          <a:xfrm>
            <a:off x="1817640" y="563076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图片 113665" descr=""/>
          <p:cNvPicPr/>
          <p:nvPr/>
        </p:nvPicPr>
        <p:blipFill>
          <a:blip r:embed="rId1"/>
          <a:stretch/>
        </p:blipFill>
        <p:spPr>
          <a:xfrm>
            <a:off x="480960" y="957240"/>
            <a:ext cx="8182080" cy="4943520"/>
          </a:xfrm>
          <a:prstGeom prst="rect">
            <a:avLst/>
          </a:prstGeom>
          <a:ln w="0">
            <a:noFill/>
          </a:ln>
        </p:spPr>
      </p:pic>
      <p:sp>
        <p:nvSpPr>
          <p:cNvPr id="1504" name="矩形 113666"/>
          <p:cNvSpPr/>
          <p:nvPr/>
        </p:nvSpPr>
        <p:spPr>
          <a:xfrm>
            <a:off x="1919160" y="2125800"/>
            <a:ext cx="3084480" cy="6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13667"/>
          <p:cNvSpPr/>
          <p:nvPr/>
        </p:nvSpPr>
        <p:spPr>
          <a:xfrm>
            <a:off x="1969920" y="3916440"/>
            <a:ext cx="3084840" cy="6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13668"/>
          <p:cNvSpPr/>
          <p:nvPr/>
        </p:nvSpPr>
        <p:spPr>
          <a:xfrm>
            <a:off x="2008080" y="5224320"/>
            <a:ext cx="4076640" cy="6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7" name="图片 112641" descr=""/>
          <p:cNvPicPr/>
          <p:nvPr/>
        </p:nvPicPr>
        <p:blipFill>
          <a:blip r:embed="rId1"/>
          <a:stretch/>
        </p:blipFill>
        <p:spPr>
          <a:xfrm>
            <a:off x="585720" y="2081160"/>
            <a:ext cx="7972560" cy="2695680"/>
          </a:xfrm>
          <a:prstGeom prst="rect">
            <a:avLst/>
          </a:prstGeom>
          <a:ln w="0">
            <a:noFill/>
          </a:ln>
        </p:spPr>
      </p:pic>
      <p:sp>
        <p:nvSpPr>
          <p:cNvPr id="1508" name="矩形 112642"/>
          <p:cNvSpPr/>
          <p:nvPr/>
        </p:nvSpPr>
        <p:spPr>
          <a:xfrm>
            <a:off x="1843200" y="2608200"/>
            <a:ext cx="2512800" cy="61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12643"/>
          <p:cNvSpPr/>
          <p:nvPr/>
        </p:nvSpPr>
        <p:spPr>
          <a:xfrm>
            <a:off x="1969920" y="3903840"/>
            <a:ext cx="4257720" cy="76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图片 111617" descr=""/>
          <p:cNvPicPr/>
          <p:nvPr/>
        </p:nvPicPr>
        <p:blipFill>
          <a:blip r:embed="rId1"/>
          <a:stretch/>
        </p:blipFill>
        <p:spPr>
          <a:xfrm>
            <a:off x="423720" y="1233360"/>
            <a:ext cx="8296560" cy="4391280"/>
          </a:xfrm>
          <a:prstGeom prst="rect">
            <a:avLst/>
          </a:prstGeom>
          <a:ln w="0">
            <a:noFill/>
          </a:ln>
        </p:spPr>
      </p:pic>
      <p:sp>
        <p:nvSpPr>
          <p:cNvPr id="1511" name="矩形 111618"/>
          <p:cNvSpPr/>
          <p:nvPr/>
        </p:nvSpPr>
        <p:spPr>
          <a:xfrm>
            <a:off x="1908000" y="5114880"/>
            <a:ext cx="3168720" cy="4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2" name="图片 110593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39160" cy="5657760"/>
          </a:xfrm>
          <a:prstGeom prst="rect">
            <a:avLst/>
          </a:prstGeom>
          <a:ln w="0">
            <a:noFill/>
          </a:ln>
        </p:spPr>
      </p:pic>
      <p:sp>
        <p:nvSpPr>
          <p:cNvPr id="1513" name="矩形 110594"/>
          <p:cNvSpPr/>
          <p:nvPr/>
        </p:nvSpPr>
        <p:spPr>
          <a:xfrm>
            <a:off x="2784600" y="3133800"/>
            <a:ext cx="4667040" cy="43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10595"/>
          <p:cNvSpPr/>
          <p:nvPr/>
        </p:nvSpPr>
        <p:spPr>
          <a:xfrm>
            <a:off x="7254720" y="5292720"/>
            <a:ext cx="1062360" cy="4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矩形 110596"/>
          <p:cNvSpPr/>
          <p:nvPr/>
        </p:nvSpPr>
        <p:spPr>
          <a:xfrm>
            <a:off x="1400040" y="5864400"/>
            <a:ext cx="2379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29" descr=""/>
          <p:cNvPicPr/>
          <p:nvPr/>
        </p:nvPicPr>
        <p:blipFill>
          <a:blip r:embed="rId1"/>
          <a:stretch/>
        </p:blipFill>
        <p:spPr>
          <a:xfrm>
            <a:off x="328680" y="1247760"/>
            <a:ext cx="8486640" cy="4362480"/>
          </a:xfrm>
          <a:prstGeom prst="rect">
            <a:avLst/>
          </a:prstGeom>
          <a:ln w="0">
            <a:noFill/>
          </a:ln>
        </p:spPr>
      </p:pic>
      <p:sp>
        <p:nvSpPr>
          <p:cNvPr id="1435" name="矩形 124931"/>
          <p:cNvSpPr/>
          <p:nvPr/>
        </p:nvSpPr>
        <p:spPr>
          <a:xfrm>
            <a:off x="5003640" y="2349360"/>
            <a:ext cx="23878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8292960" y="2336760"/>
            <a:ext cx="67176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635040" y="2781360"/>
            <a:ext cx="2136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4"/>
          <p:cNvSpPr/>
          <p:nvPr/>
        </p:nvSpPr>
        <p:spPr>
          <a:xfrm>
            <a:off x="8077320" y="3606840"/>
            <a:ext cx="6714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5"/>
          <p:cNvSpPr/>
          <p:nvPr/>
        </p:nvSpPr>
        <p:spPr>
          <a:xfrm>
            <a:off x="990720" y="4025880"/>
            <a:ext cx="9172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6"/>
          <p:cNvSpPr/>
          <p:nvPr/>
        </p:nvSpPr>
        <p:spPr>
          <a:xfrm>
            <a:off x="5292720" y="4005360"/>
            <a:ext cx="863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7"/>
          <p:cNvSpPr/>
          <p:nvPr/>
        </p:nvSpPr>
        <p:spPr>
          <a:xfrm>
            <a:off x="6732720" y="4446720"/>
            <a:ext cx="9172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8"/>
          <p:cNvSpPr/>
          <p:nvPr/>
        </p:nvSpPr>
        <p:spPr>
          <a:xfrm>
            <a:off x="3851280" y="4826160"/>
            <a:ext cx="115236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123905" descr=""/>
          <p:cNvPicPr/>
          <p:nvPr/>
        </p:nvPicPr>
        <p:blipFill>
          <a:blip r:embed="rId1"/>
          <a:stretch/>
        </p:blipFill>
        <p:spPr>
          <a:xfrm>
            <a:off x="728640" y="1938240"/>
            <a:ext cx="7686720" cy="2981520"/>
          </a:xfrm>
          <a:prstGeom prst="rect">
            <a:avLst/>
          </a:prstGeom>
          <a:ln w="0">
            <a:noFill/>
          </a:ln>
        </p:spPr>
      </p:pic>
      <p:sp>
        <p:nvSpPr>
          <p:cNvPr id="1444" name="矩形 123906"/>
          <p:cNvSpPr/>
          <p:nvPr/>
        </p:nvSpPr>
        <p:spPr>
          <a:xfrm>
            <a:off x="5043600" y="3852720"/>
            <a:ext cx="11840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3907"/>
          <p:cNvSpPr/>
          <p:nvPr/>
        </p:nvSpPr>
        <p:spPr>
          <a:xfrm>
            <a:off x="4281480" y="4525920"/>
            <a:ext cx="15858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22881" descr=""/>
          <p:cNvPicPr/>
          <p:nvPr/>
        </p:nvPicPr>
        <p:blipFill>
          <a:blip r:embed="rId1"/>
          <a:stretch/>
        </p:blipFill>
        <p:spPr>
          <a:xfrm>
            <a:off x="714240" y="1623960"/>
            <a:ext cx="7715520" cy="361008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22882"/>
          <p:cNvSpPr/>
          <p:nvPr/>
        </p:nvSpPr>
        <p:spPr>
          <a:xfrm>
            <a:off x="4014720" y="3611520"/>
            <a:ext cx="4860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2883"/>
          <p:cNvSpPr/>
          <p:nvPr/>
        </p:nvSpPr>
        <p:spPr>
          <a:xfrm>
            <a:off x="4662360" y="4030560"/>
            <a:ext cx="70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2884"/>
          <p:cNvSpPr/>
          <p:nvPr/>
        </p:nvSpPr>
        <p:spPr>
          <a:xfrm>
            <a:off x="3138480" y="4437000"/>
            <a:ext cx="9288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2885"/>
          <p:cNvSpPr/>
          <p:nvPr/>
        </p:nvSpPr>
        <p:spPr>
          <a:xfrm>
            <a:off x="4548240" y="4843440"/>
            <a:ext cx="81576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21857" descr=""/>
          <p:cNvPicPr/>
          <p:nvPr/>
        </p:nvPicPr>
        <p:blipFill>
          <a:blip r:embed="rId1"/>
          <a:stretch/>
        </p:blipFill>
        <p:spPr>
          <a:xfrm>
            <a:off x="366840" y="1009800"/>
            <a:ext cx="8410320" cy="483840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21858"/>
          <p:cNvSpPr/>
          <p:nvPr/>
        </p:nvSpPr>
        <p:spPr>
          <a:xfrm>
            <a:off x="8167680" y="2392200"/>
            <a:ext cx="3938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1859"/>
          <p:cNvSpPr/>
          <p:nvPr/>
        </p:nvSpPr>
        <p:spPr>
          <a:xfrm>
            <a:off x="1258920" y="3675240"/>
            <a:ext cx="431640" cy="3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1860"/>
          <p:cNvSpPr/>
          <p:nvPr/>
        </p:nvSpPr>
        <p:spPr>
          <a:xfrm>
            <a:off x="2732040" y="3687840"/>
            <a:ext cx="4320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1861"/>
          <p:cNvSpPr/>
          <p:nvPr/>
        </p:nvSpPr>
        <p:spPr>
          <a:xfrm>
            <a:off x="4154400" y="3700440"/>
            <a:ext cx="4320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1862"/>
          <p:cNvSpPr/>
          <p:nvPr/>
        </p:nvSpPr>
        <p:spPr>
          <a:xfrm>
            <a:off x="5500800" y="370044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21863"/>
          <p:cNvSpPr/>
          <p:nvPr/>
        </p:nvSpPr>
        <p:spPr>
          <a:xfrm>
            <a:off x="1258920" y="423396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21864"/>
          <p:cNvSpPr/>
          <p:nvPr/>
        </p:nvSpPr>
        <p:spPr>
          <a:xfrm>
            <a:off x="2313000" y="423396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1865"/>
          <p:cNvSpPr/>
          <p:nvPr/>
        </p:nvSpPr>
        <p:spPr>
          <a:xfrm>
            <a:off x="4052880" y="423396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1866"/>
          <p:cNvSpPr/>
          <p:nvPr/>
        </p:nvSpPr>
        <p:spPr>
          <a:xfrm>
            <a:off x="5272200" y="420840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21867"/>
          <p:cNvSpPr/>
          <p:nvPr/>
        </p:nvSpPr>
        <p:spPr>
          <a:xfrm>
            <a:off x="1233360" y="4767120"/>
            <a:ext cx="4320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21868"/>
          <p:cNvSpPr/>
          <p:nvPr/>
        </p:nvSpPr>
        <p:spPr>
          <a:xfrm>
            <a:off x="2706840" y="476712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21869"/>
          <p:cNvSpPr/>
          <p:nvPr/>
        </p:nvSpPr>
        <p:spPr>
          <a:xfrm>
            <a:off x="4230720" y="476712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21870"/>
          <p:cNvSpPr/>
          <p:nvPr/>
        </p:nvSpPr>
        <p:spPr>
          <a:xfrm>
            <a:off x="5742000" y="476712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21871"/>
          <p:cNvSpPr/>
          <p:nvPr/>
        </p:nvSpPr>
        <p:spPr>
          <a:xfrm>
            <a:off x="1271520" y="5313240"/>
            <a:ext cx="4320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21872"/>
          <p:cNvSpPr/>
          <p:nvPr/>
        </p:nvSpPr>
        <p:spPr>
          <a:xfrm>
            <a:off x="2401920" y="531324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21873"/>
          <p:cNvSpPr/>
          <p:nvPr/>
        </p:nvSpPr>
        <p:spPr>
          <a:xfrm>
            <a:off x="4192560" y="5326200"/>
            <a:ext cx="4320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21874"/>
          <p:cNvSpPr/>
          <p:nvPr/>
        </p:nvSpPr>
        <p:spPr>
          <a:xfrm>
            <a:off x="5322960" y="531324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2083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248680" cy="537192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20834"/>
          <p:cNvSpPr/>
          <p:nvPr/>
        </p:nvSpPr>
        <p:spPr>
          <a:xfrm>
            <a:off x="4979880" y="1452600"/>
            <a:ext cx="247176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20835"/>
          <p:cNvSpPr/>
          <p:nvPr/>
        </p:nvSpPr>
        <p:spPr>
          <a:xfrm>
            <a:off x="3887640" y="2735280"/>
            <a:ext cx="370872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20836"/>
          <p:cNvSpPr/>
          <p:nvPr/>
        </p:nvSpPr>
        <p:spPr>
          <a:xfrm>
            <a:off x="1322280" y="4005360"/>
            <a:ext cx="65628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20837"/>
          <p:cNvSpPr/>
          <p:nvPr/>
        </p:nvSpPr>
        <p:spPr>
          <a:xfrm>
            <a:off x="4573440" y="4653000"/>
            <a:ext cx="352764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20838"/>
          <p:cNvSpPr/>
          <p:nvPr/>
        </p:nvSpPr>
        <p:spPr>
          <a:xfrm>
            <a:off x="1576440" y="5834160"/>
            <a:ext cx="421956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19809" descr=""/>
          <p:cNvPicPr/>
          <p:nvPr/>
        </p:nvPicPr>
        <p:blipFill>
          <a:blip r:embed="rId1"/>
          <a:stretch/>
        </p:blipFill>
        <p:spPr>
          <a:xfrm>
            <a:off x="500040" y="1171440"/>
            <a:ext cx="8143920" cy="4515120"/>
          </a:xfrm>
          <a:prstGeom prst="rect">
            <a:avLst/>
          </a:prstGeom>
          <a:ln w="0">
            <a:noFill/>
          </a:ln>
        </p:spPr>
      </p:pic>
      <p:sp>
        <p:nvSpPr>
          <p:cNvPr id="1476" name="矩形 119810"/>
          <p:cNvSpPr/>
          <p:nvPr/>
        </p:nvSpPr>
        <p:spPr>
          <a:xfrm>
            <a:off x="7862760" y="2239920"/>
            <a:ext cx="503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118785" descr=""/>
          <p:cNvPicPr/>
          <p:nvPr/>
        </p:nvPicPr>
        <p:blipFill>
          <a:blip r:embed="rId1"/>
          <a:stretch/>
        </p:blipFill>
        <p:spPr>
          <a:xfrm>
            <a:off x="628560" y="2124000"/>
            <a:ext cx="78868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117761" descr=""/>
          <p:cNvPicPr/>
          <p:nvPr/>
        </p:nvPicPr>
        <p:blipFill>
          <a:blip r:embed="rId1"/>
          <a:stretch/>
        </p:blipFill>
        <p:spPr>
          <a:xfrm>
            <a:off x="471600" y="2638440"/>
            <a:ext cx="8200800" cy="158112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17762"/>
          <p:cNvSpPr/>
          <p:nvPr/>
        </p:nvSpPr>
        <p:spPr>
          <a:xfrm>
            <a:off x="7736040" y="3205080"/>
            <a:ext cx="502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8:44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